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A51-1F35-4316-812C-6C1EE9D2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EA7-535A-42D5-8F25-643C4E6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EB0-2291-44AC-9BAF-EB1E5826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2FD-D8BB-41D9-A305-2A255FB2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B11-06DD-4AA5-9617-48382648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FD55-D987-44CC-A4CA-359F215C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282B-04D4-4F54-8AAD-8D4659D1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3239-125C-494E-86C1-3C647AE5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107-5368-493F-8E9C-93152454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1925-83B4-4068-AF5F-4533D56D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2C6-D620-4ACD-9C36-9C8990B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A5B-146A-4614-B9F0-15EE47A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422-62FC-4042-8D85-BBC6D157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E1E-1402-48B3-B91E-EBD8B95C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8AD2-FC78-457D-AE75-9E14583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379E-FF8C-453A-913D-23C95794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1103-46C6-4872-AEE8-61CFC0CE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331D-DFA5-4EC1-972A-D2DF3356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8661-E4BF-4296-AE15-7EDFF693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BAFE-4C83-448B-B71B-7B72DEE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33BD-9EF6-4429-B16E-D9A5AC3F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4613-A12F-404F-A4B9-2B1141E4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286-50E4-45C9-87B0-F465AF0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F5BB-D633-4E13-8D36-FC9095B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CA47-A0F5-44D5-AD67-3F3273E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0CCB-D6F5-460C-87B2-56D09C04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759A-8DD1-4481-BEF6-64E97C6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2231-05EC-4535-8D7B-0DCE8EE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E6A4-4F25-4EBB-9BF7-152950C2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2CEF-66AE-4778-88A5-8C14B76E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BC11-64C4-4D41-A944-F80E27B9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DBB4-F6F9-4C8E-836B-9A8C7B4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DD75-0C77-43C8-A704-497B1643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64A-BB4A-460D-8971-6EFC9C24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2255-1BD7-4EE2-BF5A-BEAF0D77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F755-64AC-49A0-A80B-FBF4D22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C4A1-A603-4D24-8256-C2EF66C8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9A5C-E29C-4EBE-B87E-25620D3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58F3-5B41-41A2-8C5C-DB34C47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39B0-1C1C-4376-9162-F8E5EDD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192B-270E-4454-90AA-7A5153A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977B-677E-429E-BC24-9FFB8130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6590-9609-449A-8FF6-0C68BA9E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3E9EB-42CE-4150-B0B7-204BF3F0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53A-526C-4608-A790-74C02548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1642-6E2D-4E39-B9EF-4D9250EF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058E-5F05-4CB2-8D6D-8CE40BB3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1730-5A2B-4C5F-ACD3-FCAB18B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8585C-593F-4710-A83D-0226CE4F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703B-51F0-4A60-A80F-828F3BB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F205-07FF-4933-8588-AF4BCC0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CC5C-09EF-4A30-AD44-381B936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0353-DEC2-4E45-9134-BFA638DC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2CBE-E5B6-4B35-8DA9-6B70372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1E73C-29E3-4BE5-AC9C-213EE67A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A03-FD65-4345-B2CE-96B18C2D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9A4B-85EC-40A4-93DC-E5BE147C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EBCB-0CF9-4125-B4FF-85FBCD52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C202F-5919-4AC6-9A6F-B25551F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7FBC-6D7A-444D-BBAD-BD7BF4AF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0ABE-4AC0-4BC9-8E63-CA30916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16C0-5AAB-463B-8FDF-E6FD0A2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16578-4955-4F7A-9D6C-C3779B5A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00990-6F07-4611-A769-897E4BF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5BF4-5905-439D-8B98-08BB179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6D63-CF11-41DD-AB79-8020BD6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BC3-75C5-492B-AC56-259914E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76E06-8F78-4AF7-B4D9-ECD979CB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7EFA-6D76-40D3-BB8D-B1D23804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DBE8A-14CD-430D-BCC0-2F8638BB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E0E3-629A-4DEA-A906-788B2E5F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14021-0BE6-4525-AFA4-0BD1C786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E2F6-D320-4E26-8A47-14304AA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4473-B97B-4D32-AD3E-DECC49A0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F40C-F7E6-4BD8-A086-60E7315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1F0D-7F99-4781-9E66-7F7801E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A04F-0921-415C-9435-7B993ED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ABD-1266-4A41-A63C-90142DBF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757E-0FE5-4408-AF99-298BD45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36AF-B368-430A-A9E5-F1F5DC65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0B6DE-8B4D-445B-A65C-73761C8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992B-3500-4E1A-B63E-F76AF311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D958-1947-4150-BBCE-2C71EFA0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8B3-4195-4DF6-A96B-A6890FC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E0AE-E934-4262-9FDA-E4DBE6692A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67A3-3010-4821-BADA-1FB2D3BC0F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8A2-F8DA-4F31-90CC-1126FEF08B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F64E-56BC-4C52-9412-221DD95475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3FBE-B649-4795-B1D5-5DC1C0B0FD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743-47B9-4CDB-95A8-FF9F5A88DD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3049-7487-4F18-96E2-EEE9BCC316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ffffff"/>
            </a:gs>
            <a:gs pos="100000">
              <a:srgbClr val="32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240" y="5429160"/>
            <a:ext cx="3700440" cy="46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79766f"/>
                </a:solidFill>
                <a:latin typeface="Verdana"/>
              </a:rPr>
              <a:t>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1692360" y="1844640"/>
            <a:ext cx="64087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мон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ептидн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птидные гормоны имеют более простое строение, чем белковые. При этом их мономером, как известно, так же являются альфа аминокислоты. Представитель: биохимический и функциональный антип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улин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юкаг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Составные части эндокринной системы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499680"/>
            <a:ext cx="4354560" cy="30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уморальная система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оит из восьми част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таламус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Эпи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аращитовидн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Надпочечн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ета-клетки (островки Лангерганса) поджелудочной желез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олов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post-18-1151496150"/>
          <p:cNvPicPr/>
          <p:nvPr/>
        </p:nvPicPr>
        <p:blipFill>
          <a:blip r:embed="rId1"/>
          <a:stretch/>
        </p:blipFill>
        <p:spPr>
          <a:xfrm>
            <a:off x="5000760" y="674640"/>
            <a:ext cx="3429000" cy="4469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 flipV="1" rot="10800000">
            <a:off x="1071720" y="3364560"/>
            <a:ext cx="371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щий вес этих органов не превышает 100 г, а количество выделяемых ими биологически активных веществ измеряется десятитысячными долями миллиграмма! Способность оказывать мощное воздействие на организм в ничтожно малых концентрациях - главная особенность гормонов. Например, грамма инсулина достаточ­но, чтобы снизить уровень сахара в крови 125 тыс. кроликов</a:t>
            </a: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Эндокринный мозг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13880" y="642960"/>
            <a:ext cx="4211640" cy="36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ходится в самой середине мозга, под зрительными буграми. Эта часть мозг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сом в полграмм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ирует работу всей гуморальной системы, вырабатыва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ециальные нейрогормоны рилизинг-факторы и ингибитор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Первые поступая с током крови в гипофиз служат сигналом для синтеза более сложных гормонов, которые в свою очередь активируют какую-либо железу внутренней секреции. Ингибиторы же затормаживают эндокринную активность гипофи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же в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интезируютс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вазопрессин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кситоци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отвечающие за водно-солевой баланс и поддержание тонуса сосуд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1" descr=""/>
          <p:cNvPicPr/>
          <p:nvPr/>
        </p:nvPicPr>
        <p:blipFill>
          <a:blip r:embed="rId1"/>
          <a:stretch/>
        </p:blipFill>
        <p:spPr>
          <a:xfrm>
            <a:off x="4633200" y="2642400"/>
            <a:ext cx="136692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гипот"/>
          <p:cNvPicPr/>
          <p:nvPr/>
        </p:nvPicPr>
        <p:blipFill>
          <a:blip r:embed="rId2"/>
          <a:stretch/>
        </p:blipFill>
        <p:spPr>
          <a:xfrm>
            <a:off x="5786280" y="500040"/>
            <a:ext cx="26863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Эпифиз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213920"/>
            <a:ext cx="4214880" cy="364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Эпифиз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шишковидная железа) верхний мозговой придаток. Предполагается, что эпифиз вырабатывает ряд биологически активных веществ, которые регулируют деятельность иммунной системы, рост, половое созревание, водно-солевой и пигментный обмен. Их химическое строение и роль в организме до конца не изучен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е всего сведений на сегодняшний день о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Verdana"/>
              </a:rPr>
              <a:t>мелатони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Это, так называемый, гормон молодости, устанавливающий биологические ритмы организм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8" descr="эпифиз"/>
          <p:cNvPicPr/>
          <p:nvPr/>
        </p:nvPicPr>
        <p:blipFill>
          <a:blip r:embed="rId1"/>
          <a:stretch/>
        </p:blipFill>
        <p:spPr>
          <a:xfrm>
            <a:off x="4929120" y="785880"/>
            <a:ext cx="3554640" cy="46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Щитовидная желез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" y="642960"/>
            <a:ext cx="4211640" cy="4075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ет три важных гормона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еокальцетон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дний гормон участвует в обмене кальция, происходящем в организме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ируют процессы роста и развития, влияют на нервную систему, сердце и половые железы, повышают интенсивность обмена веществ, в частности окислительных реакций, проходящих с выделением теп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щитовид"/>
          <p:cNvPicPr/>
          <p:nvPr/>
        </p:nvPicPr>
        <p:blipFill>
          <a:blip r:embed="rId1"/>
          <a:stretch/>
        </p:blipFill>
        <p:spPr>
          <a:xfrm>
            <a:off x="4786200" y="714240"/>
            <a:ext cx="38800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аращитовидные желез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3280" y="785880"/>
            <a:ext cx="40687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щитовид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тероид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рмон, регулирующий обмен кальция и фосфора, от интенсивности которых зависят нервных импульсов, образование костной ткани, сокращение мышц и многое друго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паращит"/>
          <p:cNvPicPr/>
          <p:nvPr/>
        </p:nvPicPr>
        <p:blipFill>
          <a:blip r:embed="rId1"/>
          <a:stretch/>
        </p:blipFill>
        <p:spPr>
          <a:xfrm>
            <a:off x="4468680" y="928800"/>
            <a:ext cx="35337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адпочечник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2920" y="928800"/>
            <a:ext cx="356868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дпочечни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оят из мозгового вещества и коры. Гормоны коры надпочечников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тикостероид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твечают за адаптацию к проявлениям среды, в частности к холо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зговой слой вырабатывает два гормона: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реналин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орадренали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Они регулируют функцию сердечно-сосудистой системы и влияют на обмен, прежде всего углев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надпоч"/>
          <p:cNvPicPr/>
          <p:nvPr/>
        </p:nvPicPr>
        <p:blipFill>
          <a:blip r:embed="rId1"/>
          <a:stretch/>
        </p:blipFill>
        <p:spPr>
          <a:xfrm>
            <a:off x="4357800" y="1063800"/>
            <a:ext cx="3786120" cy="37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Бета-клетки (островки Лангерганса) поджелудочной железы.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2920" y="428760"/>
            <a:ext cx="42829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батывает два гормон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нсул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юкого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Соответственно, первый снижает уровень глюкозы в крови, второй гормон его повыша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6" descr="поджелуд"/>
          <p:cNvPicPr/>
          <p:nvPr/>
        </p:nvPicPr>
        <p:blipFill>
          <a:blip r:embed="rId1"/>
          <a:stretch/>
        </p:blipFill>
        <p:spPr>
          <a:xfrm>
            <a:off x="4714920" y="1285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оловые желез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2920" y="571680"/>
            <a:ext cx="356868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половой принадлеж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гестерон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славливают появление женских половых призна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ндроге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естостерон)– мужск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42900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Verdana"/>
              </a:rPr>
              <a:t>Гармоничный баланс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В нормальном состоянии существует гармоничный баланс между активностью эндокринных желез, состоянием нервной системы и ответом тканей-мишеней (тканей, на которые направлено воздействие). Любое нарушение в каждом из этих звеньев быстро приводит к отклонениям от нормы. Избыточная или недостаточная продукция гормонов служит причиной различных заболеваний, сопровождающихся глубокими химическими изменениями в организме.</a:t>
            </a:r>
            <a:r>
              <a:rPr b="0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168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Гормоны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биологически активные вещества, вырабатываемые железами внутренней секреции,  регулирующие деятельность органов и тканей организ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оль гормонов велика. Эти вещества влияют практически на все процессы, происходящие в организме, сохраняя внутреннюю стабильность среды (гомеостаза), противостояние отрицательным внешним воздействия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1714680" y="4572000"/>
            <a:ext cx="6000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ермин «гормоны» введён англ. физиологами У. Бейлиссом и Э. Старлингом в 1902 г.. Известно более 30 гормонов, выделяемых эндокринными железами млекопитающих и человек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рушение функций гипофиз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ГАНТ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ипофизарный) - аномальный рост человека, превышающий норму. Вызывается нарушением деятельности желез внутренней секреции (главным образом гипофиза, щитовидной и половых желез). При частичном гигантизме увеличены пальцы, кисти, стопы, череп. При гипофункции гипофиза возникают </a:t>
            </a: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ПОФИЗАРНЫЕ ЛИЛИПУ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АКРОМЕГАЛ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греч. akron — конечность и megas, род. п. megalu — большой), эндокринное заболевание, обусловленное избыточной продукцией гормона роста. Возникает преимущественно после завершения роста организма: увеличение конечностей, нижней челюсти и т. 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лева: Гипофизарный гигант, рядом женщины нормального роста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права: Разрастание котей лицевого черепа при акромегалии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7" name="Picture 6" descr="S7002592"/>
          <p:cNvPicPr/>
          <p:nvPr/>
        </p:nvPicPr>
        <p:blipFill>
          <a:blip r:embed="rId1"/>
          <a:stretch/>
        </p:blipFill>
        <p:spPr>
          <a:xfrm>
            <a:off x="1571760" y="2071800"/>
            <a:ext cx="58579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звестны случаи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скусственном введении гормона роста детям, страдающим недостаточностью функции гипофиза, их рост увеличивался в течение 6 месяцев на 5-6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гиперфункции гипофиза рост превышает 2 м. Римский император Максимиллиан был ростом 2,5 м, а русский крестьянин Махнов – 2.8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женщин наибольший рост отмечен у швейцарки Амы – 2,3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ипетская карлица Агибе имела рост 38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рушение функций щитовидной желез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Базедова болезн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- эндокринное заболевание, обусловленное повышенной функцией щитовидной железы, избыточно выделяющей тироксин, что приводит к тиреотоксикозу. Основные симптомы: зоб, пучеглазие, тахикардия, повышение основного обмена, исхуд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МИКСЕДЕМА или СЛИЗИСТЫЙ ОТЁК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греч. myxa — слизь и oidema — опухание, отек), эндокринное заболевание, обусловленное врожденным или приобретенным нарушением функции щитовидки. Признаки: отек кожи и подкожной клетчатки, выпадение волос, вялость, снижение умственных способнос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КРЕТИНИЗМ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франц. cretin — слабоумный, кретин), эндокринное заболевание — недостаточная функция щитовидной железы, задержка физического и психического развития; главным образом в горных районах с недостатком иода в воде или как наследственная патолог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ahoma"/>
              </a:rPr>
              <a:t>Если нарушен синтез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ИНСУЛИН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Применение и зна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140520" y="714240"/>
            <a:ext cx="2444760" cy="464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040" y="1285920"/>
            <a:ext cx="52862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моны – важнейший элемент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болевания эндокринной системы приводят к тяжелейшим патологиям и, нередко, смерти. Интегрированное химико-биологическое исследование этого класса органических соединений открывает огромные перспективы  по созданию лекарств, не имеющих побочных эффектов, совершенствованию технологий генной инженерии и во многих других отрас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еханизм действия гормонов</a:t>
            </a: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840" y="499680"/>
            <a:ext cx="8501040" cy="602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ы действуют на органы избирательно, это объясняется тем, что клетки определенных органов содержат специальные образования -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ецепторы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рганы или клетки, на которые действует конкретный гормон, называют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органами-мишенями или клетками-мишенями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Во внеклеточной жидкости содержится множество разнообразных соединений, но рецепторы узнают лишь очень немногие из них. Кроме того, рецепторы должны выбрать определенные молекулы из множества других, присутствующих в более высокой концентрации.  Каждая клетка может нести либо один тип рецепторов, либо нескольк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6" descr="Безымянный"/>
          <p:cNvPicPr/>
          <p:nvPr/>
        </p:nvPicPr>
        <p:blipFill>
          <a:blip r:embed="rId1"/>
          <a:stretch/>
        </p:blipFill>
        <p:spPr>
          <a:xfrm>
            <a:off x="714240" y="3176640"/>
            <a:ext cx="7547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ТИПЫ РЕАЛИЗАЦИИ ГОРМОНАЛЬНОГО ДЕЙСТВ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ый тип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При взаимодействии гормона с клеточной мембраной изменяется ее проницаемость для определенных веществ. Так под действием инсулина активируются системы транспорта глюкозы и она начинает активно проникать в клет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р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о-клеточном типе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 не проникая в клетку, а влияет на ее обмен через своего посредника (вторичного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ссендже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, первичный - сам гормон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Цитозольный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механизм (или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ядерный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) свойственен липофильным белкам - стероидам. Они проникают через клеточную мембрану в цитозоль и соединяются с внутриклеточными рецепторами. Комплекс гормон-рецептор проникает в ядро клетки, где избирательно влияет на активность генома, это приводит к снижению или активации синтеза определенных ферментов, что приводит к изменению скорости или направления определенных реак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Смешанный тип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- присущ йодтиронинам (гормонам щитовидной желез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 гормон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уществует две основные 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00000" y="2781360"/>
            <a:ext cx="3240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железам внутренней секреции продуцирующим горм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03640" y="2781360"/>
            <a:ext cx="374508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й прир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10"/>
          <p:cNvSpPr/>
          <p:nvPr/>
        </p:nvSpPr>
        <p:spPr>
          <a:xfrm>
            <a:off x="2286000" y="1714680"/>
            <a:ext cx="191304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11"/>
          <p:cNvSpPr/>
          <p:nvPr/>
        </p:nvSpPr>
        <p:spPr>
          <a:xfrm>
            <a:off x="4857840" y="1714680"/>
            <a:ext cx="1490400" cy="928440"/>
          </a:xfrm>
          <a:prstGeom prst="downArrow">
            <a:avLst>
              <a:gd name="adj1" fmla="val 4637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химическо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рирод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26" name="Diagram 7"/>
          <p:cNvGrpSpPr/>
          <p:nvPr/>
        </p:nvGrpSpPr>
        <p:grpSpPr>
          <a:xfrm>
            <a:off x="3853800" y="3240720"/>
            <a:ext cx="1891080" cy="1163880"/>
            <a:chOff x="3853800" y="3240720"/>
            <a:chExt cx="1891080" cy="1163880"/>
          </a:xfrm>
        </p:grpSpPr>
        <p:sp>
          <p:nvSpPr>
            <p:cNvPr id="327" name="_s1028"/>
            <p:cNvSpPr/>
            <p:nvPr/>
          </p:nvSpPr>
          <p:spPr>
            <a:xfrm>
              <a:off x="3853800" y="3240720"/>
              <a:ext cx="1891080" cy="1163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орм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357720" y="2000160"/>
            <a:ext cx="236664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3286080" y="521496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642960" y="371484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00840" y="3429000"/>
            <a:ext cx="252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о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00720" y="2924280"/>
            <a:ext cx="0" cy="57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3000240" y="392904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4643280" y="4572000"/>
            <a:ext cx="0" cy="792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5715000" y="3929040"/>
            <a:ext cx="792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тероидные горм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роидные гормоны обладают сложной циклической структурой. Например: тестестерон, наиболее важный представитель андрогенов(мужские половые гормоны) и эстроген (женский половой гормо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80724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Гормоны производные аминокисл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моны производные аминокислот имеют относительно простое строение, что, однако не умаляет их значения в организме. Наиболее известные представители: адреналин, норадреналин, тирок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ная формула адренал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4475" t="7870" r="0" b="11991"/>
          <a:stretch/>
        </p:blipFill>
        <p:spPr>
          <a:xfrm>
            <a:off x="3214800" y="3214800"/>
            <a:ext cx="52257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Белков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овые гормоны обладаю характерными для белков свойствами: большой относительной молекулярной массой, способностью формирования первичной, вторичной, третичной и четвертичной пространственных структур и т.д. Самый известный представитель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ул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Этот гормон стал первым белком, который удалось синтезировать химическим пу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0:46Z</dcterms:created>
  <dc:creator>1</dc:creator>
  <dc:description/>
  <dc:language>en-US</dc:language>
  <cp:lastModifiedBy>Admin</cp:lastModifiedBy>
  <dcterms:modified xsi:type="dcterms:W3CDTF">2012-02-13T15:55:44Z</dcterms:modified>
  <cp:revision>17</cp:revision>
  <dc:subject/>
  <dc:title>Г</dc:title>
</cp:coreProperties>
</file>